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472-055C-4594-883B-336837B2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9D-0B46-4C01-A3D6-0967B19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7FA-BFDF-4D90-84A5-9FCCC0DB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283-787C-45AB-9982-0DFC2A68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634-8040-4177-8DBD-F6FA8139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11D6-0AD4-48E1-9EEA-F99C4FE3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013-72BC-4490-B906-357F747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2E2-8AF9-4A67-B6BF-EAC0125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2CB-DF07-47E8-9E40-CC6E23FE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40D-A963-423C-AA06-6290EAC7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3C1-C66A-4341-BFA3-79D4890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0A3-C550-4770-A320-26A9F371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AF62-8044-4820-B3B7-A98AFD0CA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4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00800">
            <a:off x="1555920" y="-571320"/>
            <a:ext cx="3576600" cy="478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My Story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Book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808280" y="3429000"/>
            <a:ext cx="220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y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932000" y="1600200"/>
            <a:ext cx="3600360" cy="2185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3236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932000" y="1600200"/>
            <a:ext cx="3600360" cy="218592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39408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32000" y="1600200"/>
            <a:ext cx="3600360" cy="21859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  <a:hlinkClick r:id="rId4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previousslide"/>
            <a:hlinkClick r:id="rId5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5280" y="1628280"/>
            <a:ext cx="3394080" cy="2186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543280" y="4508640"/>
            <a:ext cx="360036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previousslide"/>
            <a:hlinkClick r:id="rId3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932360" y="1125360"/>
            <a:ext cx="3600360" cy="218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12160" y="5738760"/>
            <a:ext cx="7797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9520" y="5734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81620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8840" y="2031840"/>
            <a:ext cx="339408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784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581360"/>
            <a:ext cx="352728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3:50:26Z</dcterms:created>
  <dc:creator>OEM Preinstalled User</dc:creator>
  <dc:description/>
  <dc:language>en-US</dc:language>
  <cp:lastModifiedBy>Sue Belford</cp:lastModifiedBy>
  <dcterms:modified xsi:type="dcterms:W3CDTF">2007-12-22T07:24:58Z</dcterms:modified>
  <cp:revision>16</cp:revision>
  <dc:subject/>
  <dc:title>Slide 1</dc:title>
</cp:coreProperties>
</file>